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32F5-4DD2-4706-BD49-A9C36BBCA68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685-9980-489E-B5DD-092D55E89D6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5E3-9446-45AB-A362-5637C699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B51-5495-456A-BA07-1A082293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018-391B-4010-B4F1-259CEF6D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BCC-E6A5-44C9-B4DD-51D4637A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BC4-2E17-4BFE-B41B-D7114253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248-8063-41A0-B089-EF2A047C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364-5FD9-4864-9F52-C31D9E71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E77-873B-4DAC-9A33-B66E8723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DEB-B300-4061-AA1F-D5D19CD2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1AF-9619-4F53-B14A-2691FC5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A19-80D9-4E2E-97C2-C87E825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9EB-7AED-4506-B783-ED98376F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A580-23C6-4424-B613-8BCD810DE9B4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92000" y="2637000"/>
            <a:ext cx="76694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МУНСКА ОСНОВА ОБОЉЕЊА ШТИТАСТЕ ЖЛЕЗДЕ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92000" y="8143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НАСТАВНА ЈЕДИНИЦА 10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59000" y="5077440"/>
            <a:ext cx="582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Етиологија, имунопатогенеза и имунотерапија: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Graves-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ве болести;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Hashimoto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-вог тирeоидитиса;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Етиологија и имунопатогенеза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iabetes mellitus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-а тип 1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мунотерапија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iabetes mellitus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-а тип 1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188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Palatino Linotype"/>
              </a:rPr>
              <a:t>non-MHC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CTLA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D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D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DR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TPN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4221000"/>
            <a:ext cx="91440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Фактори околине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фек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 enterocolitic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антигенска мимикрија)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стрес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трудноћ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Имунопатоге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gdiseasefigure6"/>
          <p:cNvPicPr/>
          <p:nvPr/>
        </p:nvPicPr>
        <p:blipFill>
          <a:blip r:embed="rId1"/>
          <a:stretch/>
        </p:blipFill>
        <p:spPr>
          <a:xfrm>
            <a:off x="0" y="907920"/>
            <a:ext cx="4859280" cy="595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272200" y="1687680"/>
            <a:ext cx="2790720" cy="4351320"/>
          </a:xfrm>
          <a:prstGeom prst="rect">
            <a:avLst/>
          </a:prstGeom>
          <a:ln w="0">
            <a:noFill/>
          </a:ln>
        </p:spPr>
      </p:pic>
      <p:sp>
        <p:nvSpPr>
          <p:cNvPr id="70" name="Line 10"/>
          <p:cNvSpPr/>
          <p:nvPr/>
        </p:nvSpPr>
        <p:spPr>
          <a:xfrm>
            <a:off x="1403280" y="2637000"/>
            <a:ext cx="289080" cy="1584000"/>
          </a:xfrm>
          <a:prstGeom prst="line">
            <a:avLst/>
          </a:prstGeom>
          <a:ln w="936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116000" y="3645000"/>
            <a:ext cx="576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Garamond"/>
              </a:rPr>
              <a:t>CD4</a:t>
            </a:r>
            <a:r>
              <a:rPr b="1" lang="sr-CS" sz="1000" spc="-1" strike="noStrike">
                <a:solidFill>
                  <a:srgbClr val="eeece1"/>
                </a:solidFill>
                <a:latin typeface="Garamond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Имунопат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98100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Palatino Linotype"/>
              </a:rPr>
              <a:t>Тиреостимулишући хормонски рецептор (</a:t>
            </a:r>
            <a:r>
              <a:rPr b="1" lang="en-US" sz="26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r>
              <a:rPr b="1" lang="sr-CS" sz="2600" spc="-1" strike="noStrike">
                <a:solidFill>
                  <a:srgbClr val="000000"/>
                </a:solidFill>
                <a:latin typeface="Palatino Linotype"/>
              </a:rPr>
              <a:t>) </a:t>
            </a:r>
            <a:r>
              <a:rPr b="1" lang="sr-CS" sz="2600" spc="-1" strike="noStrike">
                <a:solidFill>
                  <a:srgbClr val="ff0000"/>
                </a:solidFill>
                <a:latin typeface="Palatino Linotype"/>
              </a:rPr>
              <a:t>игра важну улогу у регулацији раста и диференцијацији штитасте жлезд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Епитоп А –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стимулишућа антитела 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SAb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 -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хипертиреоид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Епитоп Б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- TSHR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блокирајућа антитела 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BAb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sr-CS" sz="2400" spc="-1" strike="noStrike">
                <a:solidFill>
                  <a:srgbClr val="00cc00"/>
                </a:solidFill>
                <a:latin typeface="Palatino Linotype"/>
              </a:rPr>
              <a:t>хипотиреоид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Епитоп Ц -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неутрална антитела 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NAb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5603760"/>
            <a:ext cx="91440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Palatino Linotype"/>
              </a:rPr>
              <a:t>Тиреоидна пероксидаза (</a:t>
            </a:r>
            <a:r>
              <a:rPr b="1" lang="en-US" sz="2700" spc="-1" strike="noStrike">
                <a:solidFill>
                  <a:srgbClr val="000000"/>
                </a:solidFill>
                <a:latin typeface="Palatino Linotype"/>
              </a:rPr>
              <a:t>TPO</a:t>
            </a:r>
            <a:r>
              <a:rPr b="1" lang="sr-CS" sz="2700" spc="-1" strike="noStrike">
                <a:solidFill>
                  <a:srgbClr val="000000"/>
                </a:solidFill>
                <a:latin typeface="Palatino Linotype"/>
              </a:rPr>
              <a:t>) - </a:t>
            </a:r>
            <a:r>
              <a:rPr b="0" lang="sr-CS" sz="2700" spc="-1" strike="noStrike">
                <a:solidFill>
                  <a:srgbClr val="000000"/>
                </a:solidFill>
                <a:latin typeface="Palatino Linotype"/>
              </a:rPr>
              <a:t>анти </a:t>
            </a:r>
            <a:r>
              <a:rPr b="0" lang="sr-Latn-CS" sz="2700" spc="-1" strike="noStrike">
                <a:solidFill>
                  <a:srgbClr val="000000"/>
                </a:solidFill>
                <a:latin typeface="Palatino Linotype"/>
              </a:rPr>
              <a:t>TPO </a:t>
            </a:r>
            <a:r>
              <a:rPr b="0" lang="sr-CS" sz="2700" spc="-1" strike="noStrike">
                <a:solidFill>
                  <a:srgbClr val="000000"/>
                </a:solidFill>
                <a:latin typeface="Palatino Linotype"/>
              </a:rPr>
              <a:t>антитела</a:t>
            </a:r>
            <a:endParaRPr b="0" lang="en-US" sz="27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75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Palatino Linotype"/>
              </a:rPr>
              <a:t>Тиреоглобулин - </a:t>
            </a:r>
            <a:r>
              <a:rPr b="0" lang="sr-CS" sz="2700" spc="-1" strike="noStrike">
                <a:solidFill>
                  <a:srgbClr val="000000"/>
                </a:solidFill>
                <a:latin typeface="Palatino Linotype"/>
              </a:rPr>
              <a:t>анти </a:t>
            </a:r>
            <a:r>
              <a:rPr b="0" lang="sr-Latn-CS" sz="2700" spc="-1" strike="noStrike">
                <a:solidFill>
                  <a:srgbClr val="000000"/>
                </a:solidFill>
                <a:latin typeface="Palatino Linotype"/>
              </a:rPr>
              <a:t>Tg</a:t>
            </a:r>
            <a:r>
              <a:rPr b="0" lang="sr-CS" sz="2700" spc="-1" strike="noStrike">
                <a:solidFill>
                  <a:srgbClr val="000000"/>
                </a:solidFill>
                <a:latin typeface="Palatino Linotype"/>
              </a:rPr>
              <a:t> антитела</a:t>
            </a:r>
            <a:endParaRPr b="0" lang="en-US" sz="27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Инфилтрација лимфоцита у штитастој жлезди код </a:t>
            </a:r>
            <a:r>
              <a:rPr b="0" i="1" lang="sr-Latn-CS" sz="3200" spc="-1" strike="noStrike">
                <a:solidFill>
                  <a:srgbClr val="000000"/>
                </a:solidFill>
                <a:latin typeface="Palatino Linotype"/>
              </a:rPr>
              <a:t>Graves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-ов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788080" y="3068640"/>
            <a:ext cx="3355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Palatino Linotype"/>
              </a:rPr>
              <a:t>CD4&gt;CD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Palatino Linotype"/>
              </a:rPr>
              <a:t>B</a:t>
            </a:r>
            <a:r>
              <a:rPr b="0" lang="sr-CS" sz="3200" spc="-1" strike="noStrike">
                <a:solidFill>
                  <a:srgbClr val="898989"/>
                </a:solidFill>
                <a:latin typeface="Palatino Linotype"/>
              </a:rPr>
              <a:t> лимфоц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000p043y"/>
          <p:cNvPicPr/>
          <p:nvPr/>
        </p:nvPicPr>
        <p:blipFill>
          <a:blip r:embed="rId1"/>
          <a:stretch/>
        </p:blipFill>
        <p:spPr>
          <a:xfrm>
            <a:off x="539640" y="1989000"/>
            <a:ext cx="5257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4760" y="16308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7760" y="1228680"/>
            <a:ext cx="56023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Palatino Linotype"/>
              </a:rPr>
              <a:t>Егзофталмус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је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збоченост очних јабучица настала као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резултат два патолошка процеса: миозитис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мишића очију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праћен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инфилтрацијом лимфоцит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и пролиферације ретроорбиталног тки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Palatino Linotype"/>
              </a:rPr>
              <a:t>Претибијални микседем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је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јасно ограничено, поткожно задебљање на антеро-латералној страни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отколенице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 Оток је тврд, а кожа сјајна и црвенкасто смеђ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2a.jpg (23211 bytes)"/>
          <p:cNvPicPr/>
          <p:nvPr/>
        </p:nvPicPr>
        <p:blipFill>
          <a:blip r:embed="rId1"/>
          <a:stretch/>
        </p:blipFill>
        <p:spPr>
          <a:xfrm>
            <a:off x="6119640" y="1387440"/>
            <a:ext cx="3024360" cy="227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t3.gstatic.com/images?q=tbn:ANd9GcS7805Nf_v16tkvKbQg5nQp8snSk-Uf4e2LK9rtoQ6Ig2Rhsr-D"/>
          <p:cNvPicPr/>
          <p:nvPr/>
        </p:nvPicPr>
        <p:blipFill>
          <a:blip r:embed="rId2"/>
          <a:stretch/>
        </p:blipFill>
        <p:spPr>
          <a:xfrm>
            <a:off x="6164280" y="4192560"/>
            <a:ext cx="297972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95160" y="1379520"/>
            <a:ext cx="7398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Дифузно увећање тиреоидне жлез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убитак тежине уз појачан апет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Палпит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толеранција топл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Тремор руку, црвенило длан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У 5-10% могућа је офталмопат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Могућ је губитак ко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Дијагн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Високе вредности слободног Т3 и Т4 уз скоро немерљив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T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од старијих особа је могуће повећање нивоа слободног Т3 уз нормалан слободан Т4 и немерљив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T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SHR-stimulating antibody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SAb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);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&gt;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Ултразвук тиреоид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Сцинтиграфија са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alatino Linotype"/>
              </a:rPr>
              <a:t>99−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c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alatino Linotype"/>
              </a:rPr>
              <a:t>123−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може да покаже дистрибуцију функционалног ткива жлез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Лечење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Лековима: пропилтиоурацил, метимаз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(примена јода уз антитиреоидну терапију узрокује чешће релапсе боле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Радиоктивним ј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Хируршко леч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Palatino Linotype"/>
              </a:rPr>
              <a:t>Hashimoto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ов тиреоидити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Постпартални тиреоидити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Ет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Генетски фак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Palatino Linotype"/>
              </a:rPr>
              <a:t>MHC 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53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утоимунске болести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ритерију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Идентификовани аутоантигени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Утврђена антитела која реагују са антиге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Утврђена инфилтрација циљног ткива мононуклеарним ћелиј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Остварен пасиван трансфер болести лимфоцитима или серумом у експреименталном моде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333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Palatino Linotype"/>
              </a:rPr>
              <a:t>non-MHC 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CTLA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re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3213000"/>
            <a:ext cx="91440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Фактори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околине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фекција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– </a:t>
            </a: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Rubella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, HCV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хормони – естроген..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стрес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леков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4"/>
          <p:cNvGraphicFramePr/>
          <p:nvPr/>
        </p:nvGraphicFramePr>
        <p:xfrm>
          <a:off x="0" y="1197000"/>
          <a:ext cx="66596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6596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5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f497d"/>
                </a:solidFill>
                <a:latin typeface="Palatino Linotype"/>
              </a:rPr>
              <a:t>Имунопатогенеза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767640" y="2349360"/>
            <a:ext cx="2376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Т лимфоцит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В лимфоцит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лазмоцит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Макрофаги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Palatino Linotype"/>
              </a:rPr>
              <a:t>Имунопат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0" y="981000"/>
          <a:ext cx="363528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363528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5" descr="nri750-f2"/>
          <p:cNvPicPr/>
          <p:nvPr/>
        </p:nvPicPr>
        <p:blipFill>
          <a:blip r:embed="rId3"/>
          <a:stretch/>
        </p:blipFill>
        <p:spPr>
          <a:xfrm>
            <a:off x="3492360" y="981000"/>
            <a:ext cx="565164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ri750-f4"/>
          <p:cNvPicPr/>
          <p:nvPr/>
        </p:nvPicPr>
        <p:blipFill>
          <a:blip r:embed="rId4"/>
          <a:stretch/>
        </p:blipFill>
        <p:spPr>
          <a:xfrm>
            <a:off x="3492360" y="3789360"/>
            <a:ext cx="5651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Имунопат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24000" y="1916280"/>
            <a:ext cx="8569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Имунски комплекси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Терминалне компоненте комплемента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Герминативни центри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утоимунски хипотиреоидиз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Термин који означава инсуфицијентну функцију штитасте жлезде која је настала као последица аутоимунског оштећења ткива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Најчешће се јавља као хронични или лимфоцитни тиреоидитис (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Hashimoto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-ов тиреоидити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утоимунски хипотиреоидиз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926720"/>
            <a:ext cx="446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У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Неподношење хладно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Затв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Ослабљено памћ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Успорени ментални проце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Депре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Синдроми укљештења не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Атак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Мишићна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Мишићни грч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Поремећаји менстру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1926720"/>
            <a:ext cx="44989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Дијастолна хи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Стр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Промукл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Периорбитални еде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Сува, хладна, перутава ко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Хиперкаротин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Добијање у теж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Дијагностика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36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Позитивна циркулишућа аутоантитела на ТРО (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 </a:t>
            </a:r>
            <a:r>
              <a:rPr b="0" lang="sr-Latn-CS" sz="2600" spc="-1" strike="noStrike">
                <a:solidFill>
                  <a:srgbClr val="ff9900"/>
                </a:solidFill>
                <a:latin typeface="Palatino Linotype"/>
              </a:rPr>
              <a:t>TPO 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тела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) и тиреоглобулин (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 </a:t>
            </a:r>
            <a:r>
              <a:rPr b="0" lang="sr-Latn-CS" sz="2600" spc="-1" strike="noStrike">
                <a:solidFill>
                  <a:srgbClr val="ff9900"/>
                </a:solidFill>
                <a:latin typeface="Palatino Linotype"/>
              </a:rPr>
              <a:t>Tg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 антитела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) уз хипоехогену слику тиреоидне жлезде су главни показатељи аутоимунског хипотиреоидиз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Сцинтиграф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Биопсија – оксифилне ћел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c21_s40"/>
          <p:cNvPicPr/>
          <p:nvPr/>
        </p:nvPicPr>
        <p:blipFill>
          <a:blip r:embed="rId1"/>
          <a:stretch/>
        </p:blipFill>
        <p:spPr>
          <a:xfrm>
            <a:off x="5526000" y="1484280"/>
            <a:ext cx="3618000" cy="201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main"/>
          <p:cNvPicPr/>
          <p:nvPr/>
        </p:nvPicPr>
        <p:blipFill>
          <a:blip r:embed="rId2"/>
          <a:stretch/>
        </p:blipFill>
        <p:spPr>
          <a:xfrm>
            <a:off x="5435640" y="3762360"/>
            <a:ext cx="370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Левотироксин (Т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Постпартални тиреоид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Учесталост: у 8-10% жена после порођа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озитивна корелација присуства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HLA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3,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4,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5 и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7 и ризика за појаву постпарталног тиреоидити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Дисбаланс ефекторских и регулаторних Т лимфоцита након порођаја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 </a:t>
            </a:r>
            <a:r>
              <a:rPr b="0" lang="sr-Latn-CS" sz="2600" spc="-1" strike="noStrike">
                <a:solidFill>
                  <a:srgbClr val="ff9900"/>
                </a:solidFill>
                <a:latin typeface="Palatino Linotype"/>
              </a:rPr>
              <a:t>TPO 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те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ећина пацијенткиња се враћа у еутиреоидно стање, иако 10-29% слу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ч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ајева може прећи у перманентни или пролазни хипотиреоид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9996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Идиопатска тиреоидна атрофија (микседем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1600200"/>
            <a:ext cx="89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Palatino Linotype"/>
              </a:rPr>
              <a:t>Микседем</a:t>
            </a:r>
            <a:r>
              <a:rPr b="1" lang="sr-CS" sz="2800" spc="-1" strike="noStrike">
                <a:solidFill>
                  <a:srgbClr val="ff990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означава тешку форму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хипотир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оидизма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ада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депоновање муцинозне супстанце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узрокује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задебљање коже и поткожног тк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Чешће се јавља код ж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Етиологија: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MHC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ени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non-MHC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ени (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CTLA-4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Не п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остоји блиска веза са HLA-DR3 ге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Placeholder 2"/>
          <p:cNvSpPr/>
          <p:nvPr/>
        </p:nvSpPr>
        <p:spPr>
          <a:xfrm>
            <a:off x="75564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alatino Linotype"/>
              </a:rPr>
              <a:t>Механизми аутоимуности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ГЕНЕТСКА ОСНОВА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ПРЕЖИВЉАВАЊЕ АУТОРЕАКТИВНИХ Т ЛИМФОЦИТА У ТИМУСУ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ПОСТОЈАЊЕ ДУАЛНИХ </a:t>
            </a:r>
            <a:r>
              <a:rPr b="1" lang="sr-Latn-CS" sz="2400" spc="-1" strike="noStrike">
                <a:solidFill>
                  <a:srgbClr val="1f497d"/>
                </a:solidFill>
                <a:latin typeface="Palatino Linotype"/>
              </a:rPr>
              <a:t>TCR </a:t>
            </a: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НА Т ЛИМФОЦИТИМА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ПОСМАТРАЧКА АКТИВАЦИЈА/</a:t>
            </a:r>
            <a:r>
              <a:rPr b="1" lang="sr-Latn-CS" sz="2400" spc="-1" strike="noStrike">
                <a:solidFill>
                  <a:srgbClr val="1f497d"/>
                </a:solidFill>
                <a:latin typeface="Palatino Linotype"/>
              </a:rPr>
              <a:t>TLR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АКТИВАЦИЈА АУТОРЕАКТИВНИХ В ЛИМФОЦИТА/</a:t>
            </a:r>
            <a:r>
              <a:rPr b="1" lang="sr-Latn-CS" sz="2400" spc="-1" strike="noStrike">
                <a:solidFill>
                  <a:srgbClr val="1f497d"/>
                </a:solidFill>
                <a:latin typeface="Palatino Linotype"/>
              </a:rPr>
              <a:t>TLR</a:t>
            </a: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 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МОЛЕКУЛАРНА МИМИКРИЈА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СЕКВЕСТРИРАНИ АНТИГЕНИ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ПРЕКИД ПЕРИФЕРНЕ ТОЛЕРАНЦИЈЕ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Дијагн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244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Биопсија тиреоидне жлезде открива лимфоцитну инфилтрацију, фиброзу и атрофиј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Титар конвенционалних антитиреоидних антитела (анти </a:t>
            </a:r>
            <a:r>
              <a:rPr b="0" lang="sr-Latn-CS" sz="2600" spc="-1" strike="noStrike">
                <a:solidFill>
                  <a:srgbClr val="000000"/>
                </a:solidFill>
                <a:latin typeface="Palatino Linotype"/>
              </a:rPr>
              <a:t>TPO 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антитела и анти </a:t>
            </a:r>
            <a:r>
              <a:rPr b="0" lang="sr-Latn-CS" sz="2600" spc="-1" strike="noStrike">
                <a:solidFill>
                  <a:srgbClr val="000000"/>
                </a:solidFill>
                <a:latin typeface="Palatino Linotype"/>
              </a:rPr>
              <a:t>Tg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 антитела)</a:t>
            </a:r>
            <a:r>
              <a:rPr b="0" lang="ru-RU" sz="2600" spc="-1" strike="noStrike">
                <a:solidFill>
                  <a:srgbClr val="000000"/>
                </a:solidFill>
                <a:latin typeface="Palatino Linotype"/>
              </a:rPr>
              <a:t> у серуму оболелих је приближан као и код оболелих од Хашимотовог тироидити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Присутна су 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 блокирајућа антитела (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BAb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) која спречавају раст и метаболизам тереоидне жлезд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Мајчина 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BAb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 спречавају развој тереоидне жлезде плода што за последицу може да има настанак атиреоидног кретениз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f497d"/>
                </a:solidFill>
                <a:latin typeface="Palatino Linotype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Левотироксин (Т4)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Лиотиронин (Т3) -тежи облик болести и  микседемска кома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350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972941"/>
                </a:solidFill>
                <a:latin typeface="Palatino Linotype"/>
              </a:rPr>
              <a:t>Етиологија и имунопатогенеза:</a:t>
            </a:r>
            <a:br>
              <a:rPr sz="4000"/>
            </a:br>
            <a:r>
              <a:rPr b="1" i="1" lang="en-US" sz="4000" spc="-1" strike="noStrike">
                <a:solidFill>
                  <a:srgbClr val="972941"/>
                </a:solidFill>
                <a:latin typeface="Palatino Linotype"/>
              </a:rPr>
              <a:t>Diabetes mellitus-</a:t>
            </a:r>
            <a:r>
              <a:rPr b="1" lang="sr-CS" sz="4000" spc="-1" strike="noStrike">
                <a:solidFill>
                  <a:srgbClr val="972941"/>
                </a:solidFill>
                <a:latin typeface="Palatino Linotype"/>
              </a:rPr>
              <a:t>а тип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litus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је група метаболичких болести које карактерише </a:t>
            </a:r>
            <a:r>
              <a:rPr b="1" lang="en-US" sz="2400" spc="-1" strike="noStrike">
                <a:solidFill>
                  <a:srgbClr val="cc0000"/>
                </a:solidFill>
                <a:latin typeface="Palatino Linotype"/>
              </a:rPr>
              <a:t>хипергликемиј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тј. трајно повишење нива глукозе у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Хипергликемија узрокује класичне симптоме и знаке шећерне болести, а то су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полиуриј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учестало мокрење),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полидипсиј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појачана жеђ) и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полифагиј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појачана гл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Дијабетес настаје настаје због смањене секреције или смањеног биолошког дејства инсул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000000"/>
                </a:solidFill>
                <a:latin typeface="Palatino Linotype"/>
              </a:rPr>
              <a:t>Diabetes mel</a:t>
            </a: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l</a:t>
            </a:r>
            <a:r>
              <a:rPr b="0" i="1" lang="sr-Latn-CS" sz="4400" spc="-1" strike="noStrike">
                <a:solidFill>
                  <a:srgbClr val="000000"/>
                </a:solidFill>
                <a:latin typeface="Palatino Linotype"/>
              </a:rPr>
              <a:t>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тип 1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инсулин-зависни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DDM, engl.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Insulin-Dependent Diabetes Me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јувенилни дијабетес) настаје као последица смањене продукције инсулина у панкреа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тип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2 (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нсулин-независни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NIDDM, engl.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Non-Insulin-Dependent Diabetes Me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 настаје услед смањеног биолошког дејства инсулина као последице развоја инсулинске резистенциј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Антигени и анти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 току деструкције ћелија острваца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тигени панкреаса и инсулин могу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б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т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исут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у форми кој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 имунски систем препознаје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као стран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чиме се може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об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нити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исуство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уто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антител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д особа са дијабетесом типа 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Palatino Linotype"/>
              </a:rPr>
              <a:t>Антиген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који су најчешће удружени са овим обољењем су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GAD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Glutamic Acid Decarboxylase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IA-2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тирозин фосфат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ога ауто антитела је нејас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Palatino Linotype"/>
              </a:rPr>
              <a:t>А</a:t>
            </a:r>
            <a:r>
              <a:rPr b="1" lang="en-US" sz="2000" spc="-1" strike="noStrike">
                <a:solidFill>
                  <a:srgbClr val="c00000"/>
                </a:solidFill>
                <a:latin typeface="Palatino Linotype"/>
              </a:rPr>
              <a:t>нтитела на панкреасна острвц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од енгл.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аnti-islet cell antibodie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C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Palatino Linotype"/>
              </a:rPr>
              <a:t>Инсулинска аутоантите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Palatino Linotype"/>
              </a:rPr>
              <a:t>Антитела на глутамат дехидрогеназу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glutamic acid decarboxylase 65 antibodie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 GAD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стовремено присуство ICA и </a:t>
            </a: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других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 аутоантитела може </a:t>
            </a: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да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укаже на будући развој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–а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тип 1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Т ћелијски имунски одгов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3898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Т ћелијски имунски одговор заузима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централну улогу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у патогенези дијабетеса и одговоран је за деструкцију ћелија панкреасних острвац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Доминантне ћелије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које инфилтришу панкреасна острвца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су Т лимфоцити а нарочито активирани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CD8+ T лимфоц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Fig"/>
          <p:cNvPicPr/>
          <p:nvPr/>
        </p:nvPicPr>
        <p:blipFill>
          <a:blip r:embed="rId1"/>
          <a:srcRect l="0" t="0" r="0" b="6299"/>
          <a:stretch/>
        </p:blipFill>
        <p:spPr>
          <a:xfrm>
            <a:off x="4932360" y="1484280"/>
            <a:ext cx="3787920" cy="4969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Palatino Linotype"/>
              </a:rPr>
              <a:t>Имунопатогенеза </a:t>
            </a:r>
            <a:br>
              <a:rPr sz="3600"/>
            </a:br>
            <a:r>
              <a:rPr b="0" i="1" lang="sr-Latn-CS" sz="3600" spc="-1" strike="noStrike">
                <a:solidFill>
                  <a:srgbClr val="000000"/>
                </a:solidFill>
                <a:latin typeface="Palatino Linotype"/>
              </a:rPr>
              <a:t>diabetes mel</a:t>
            </a:r>
            <a:r>
              <a:rPr b="0" i="1" lang="en-US" sz="3600" spc="-1" strike="noStrike">
                <a:solidFill>
                  <a:srgbClr val="000000"/>
                </a:solidFill>
                <a:latin typeface="Palatino Linotype"/>
              </a:rPr>
              <a:t>l</a:t>
            </a:r>
            <a:r>
              <a:rPr b="0" i="1" lang="sr-Latn-CS" sz="3600" spc="-1" strike="noStrike">
                <a:solidFill>
                  <a:srgbClr val="000000"/>
                </a:solidFill>
                <a:latin typeface="Palatino Linotype"/>
              </a:rPr>
              <a:t>itus</a:t>
            </a:r>
            <a:r>
              <a:rPr b="0" lang="sr-Latn-CS" sz="3600" spc="-1" strike="noStrike">
                <a:solidFill>
                  <a:srgbClr val="000000"/>
                </a:solidFill>
                <a:latin typeface="Palatino Linotype"/>
              </a:rPr>
              <a:t>-а тип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Oрган-специфично </a:t>
            </a:r>
            <a:r>
              <a:rPr b="0" lang="sr-Latn-CS" sz="2400" spc="-1" strike="noStrike">
                <a:solidFill>
                  <a:srgbClr val="cc0000"/>
                </a:solidFill>
                <a:latin typeface="Palatino Linotype"/>
              </a:rPr>
              <a:t>аутоимунско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обоље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Продукција инсулина изостаје услед специфичног имунског одговора и </a:t>
            </a:r>
            <a:r>
              <a:rPr b="0" lang="sr-Latn-CS" sz="2400" spc="-1" strike="noStrike">
                <a:solidFill>
                  <a:srgbClr val="cc0000"/>
                </a:solidFill>
                <a:latin typeface="Palatino Linotype"/>
              </a:rPr>
              <a:t>деструкције  β-ћел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00"/>
                </a:solidFill>
                <a:latin typeface="Palatino Linotype"/>
              </a:rPr>
              <a:t>Инсулит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нтензивн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инфилтр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циј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Лангерхансов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х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острв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активирани CD4+ и CD8+ Т лимфоцити, макрофаг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редукован број β-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релативно осудан број α-ћелија које продукују глукаг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Figure 4"/>
          <p:cNvPicPr/>
          <p:nvPr/>
        </p:nvPicPr>
        <p:blipFill>
          <a:blip r:embed="rId1"/>
          <a:stretch/>
        </p:blipFill>
        <p:spPr>
          <a:xfrm>
            <a:off x="1646280" y="5654520"/>
            <a:ext cx="1255680" cy="1087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Figure 1"/>
          <p:cNvPicPr/>
          <p:nvPr/>
        </p:nvPicPr>
        <p:blipFill>
          <a:blip r:embed="rId2"/>
          <a:stretch/>
        </p:blipFill>
        <p:spPr>
          <a:xfrm>
            <a:off x="3932280" y="5654520"/>
            <a:ext cx="1214280" cy="1087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igure 3"/>
          <p:cNvPicPr/>
          <p:nvPr/>
        </p:nvPicPr>
        <p:blipFill>
          <a:blip r:embed="rId3"/>
          <a:stretch/>
        </p:blipFill>
        <p:spPr>
          <a:xfrm>
            <a:off x="6146640" y="5645160"/>
            <a:ext cx="123372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Palatino Linotype"/>
              </a:rPr>
              <a:t>Иницијална фаза</a:t>
            </a: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sr-Latn-CS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543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 утицајем непознатих патогених агенаса, долази до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ослобађања модификованих антиген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β ћелија, које потом преузимају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ткивне DC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обрађују их и презентују у контексту MHC молекула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I клас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вако приказане антигене препознају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CD8+Т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лимфоцити, активирају се и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оштећују β ћелиј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на којима препознају исту комбинацију антигена и MHC молекула  I клас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D8+ Т лимфоцити оштећују β ћелије секрецијом цитотоксичних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цитокин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IFN-γ, TNF-α), путем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директног контакт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Fas/FasL интеракцијом и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перфорин-гранзимским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ханизм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з оштећених β ћелија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ослобађају се ћелијски антиг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G:\Doktorat\Nemanja diabetes.jpg"/>
          <p:cNvPicPr/>
          <p:nvPr/>
        </p:nvPicPr>
        <p:blipFill>
          <a:blip r:embed="rId1"/>
          <a:srcRect l="0" t="0" r="52788" b="36724"/>
          <a:stretch/>
        </p:blipFill>
        <p:spPr>
          <a:xfrm>
            <a:off x="5435640" y="1341360"/>
            <a:ext cx="3519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Palatino Linotype"/>
              </a:rPr>
              <a:t>Иницијална фаза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455480"/>
            <a:ext cx="5256000" cy="52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ве антигене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р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зимају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незреле дендритичне ћелиј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у панкреасу и транспортују их до парапанкреатичних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лимфних чворов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где их обрађују и презентују CD4+ Т лимфоцитим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Презентациј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антигена узрокује клонску експанзију аутореактивних ефекторских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CD4+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Т лимфоц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тореактивни ефекторски CD4+ Т лимфоцита на својој површини исказују различите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адхезивне молекул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ICAM1, LFA1, и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хемокинске рецептор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: CCR4, CCR5, CXCR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ема антигенском градијенту и хемокинима насталим на месту почетне инфламације под утицајем CD8+ Т лимфоцита,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активирани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D4+ Т лимфоцит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1800" spc="-1" strike="noStrike">
                <a:solidFill>
                  <a:srgbClr val="cc0000"/>
                </a:solidFill>
                <a:latin typeface="Palatino Linotype"/>
              </a:rPr>
              <a:t>мигрирају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у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анкреасно тки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5400720" y="1268280"/>
            <a:ext cx="3635280" cy="5040360"/>
            <a:chOff x="5400720" y="1268280"/>
            <a:chExt cx="3635280" cy="5040360"/>
          </a:xfrm>
        </p:grpSpPr>
        <p:pic>
          <p:nvPicPr>
            <p:cNvPr id="144" name="Picture 1" descr="G:\Doktorat\Nemanja diabetes.jpg"/>
            <p:cNvPicPr/>
            <p:nvPr/>
          </p:nvPicPr>
          <p:blipFill>
            <a:blip r:embed="rId1"/>
            <a:srcRect l="47014" t="0" r="0" b="12811"/>
            <a:stretch/>
          </p:blipFill>
          <p:spPr>
            <a:xfrm>
              <a:off x="5402160" y="1268280"/>
              <a:ext cx="3633840" cy="50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1"/>
            <p:cNvSpPr/>
            <p:nvPr/>
          </p:nvSpPr>
          <p:spPr>
            <a:xfrm>
              <a:off x="5400720" y="3644640"/>
              <a:ext cx="1008000" cy="26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pitope spreading in immune-mediated diseases: implications for immunotherapy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Ефекторска ф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Ефекторски CD4+ Т лимфоцити активирају и покрећу ћелије урођене и стечене имуности што омогућава развој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инсулитис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ве ћелије које инфилтришу острвца у раној фази инсулитиса су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макрофаги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и дендритичне ћелије, након њих следи инфилтрација Т, B лимфоцитима и NK ћелијам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филтришуће ћелије секретују проинфламаторне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цитокин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IL1-β, TNF-α и IFN-γ изазивају селективно разарање β ћелија индукцијом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проапоптотских сигнал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уз истовремено подстицање експресије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CD95 (Fas)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молекула на овим ћелијама</a:t>
            </a: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" descr="G:\Doktorat\Nemanja diabetes.jpg"/>
          <p:cNvPicPr/>
          <p:nvPr/>
        </p:nvPicPr>
        <p:blipFill>
          <a:blip r:embed="rId1"/>
          <a:srcRect l="0" t="76864" r="37116" b="0"/>
          <a:stretch/>
        </p:blipFill>
        <p:spPr>
          <a:xfrm>
            <a:off x="1332000" y="4714920"/>
            <a:ext cx="5616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G:\Doktorat\Nemanja diabetes.jpg"/>
          <p:cNvPicPr/>
          <p:nvPr/>
        </p:nvPicPr>
        <p:blipFill>
          <a:blip r:embed="rId1"/>
          <a:stretch/>
        </p:blipFill>
        <p:spPr>
          <a:xfrm>
            <a:off x="289080" y="0"/>
            <a:ext cx="781200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Генетски фактор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179280" y="1557360"/>
            <a:ext cx="5977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ко 95% оболелих од дијабетеса у северној Европи поседују </a:t>
            </a:r>
            <a:r>
              <a:rPr b="0" lang="en-US" sz="2000" spc="-1" strike="noStrike">
                <a:solidFill>
                  <a:srgbClr val="cc0000"/>
                </a:solidFill>
                <a:latin typeface="Palatino Linotype"/>
              </a:rPr>
              <a:t>HLA-DR3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0" lang="en-US" sz="2000" spc="-1" strike="noStrike">
                <a:solidFill>
                  <a:srgbClr val="cc0000"/>
                </a:solidFill>
                <a:latin typeface="Palatino Linotype"/>
              </a:rPr>
              <a:t>HLA-DR4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ко 40% белаца оболелих од IDDM типа 1 су DR3/DR4 хетерозиготи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ви алели су удружени са </a:t>
            </a:r>
            <a:r>
              <a:rPr b="0" lang="en-US" sz="2000" spc="-1" strike="noStrike">
                <a:solidFill>
                  <a:srgbClr val="cc0000"/>
                </a:solidFill>
                <a:latin typeface="Palatino Linotype"/>
              </a:rPr>
              <a:t>HLA-DQ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варијантама алела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ритични фактор аминокиселина на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  <a:ea typeface="Arial"/>
              </a:rPr>
              <a:t>позицији 57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 на HLA-DQβ ланцу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HLA-DQ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ели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Генетске варијације DQВ кој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ају </a:t>
            </a:r>
            <a:r>
              <a:rPr b="0" lang="en-US" sz="2000" spc="-1" strike="noStrike">
                <a:solidFill>
                  <a:srgbClr val="cc0000"/>
                </a:solidFill>
                <a:latin typeface="Palatino Linotype"/>
              </a:rPr>
              <a:t>аспартат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на овој позицији штите од развоја IDDM, док варијанте које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ају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друге аминокиселине повећавају ризик од обољевања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ми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окиселина на позицији 57 у HLA-DQβ ланцу је смештена у активном месту (жлебу) MHC молекула II класе и потенцијално може да утиче на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  <a:ea typeface="Arial"/>
              </a:rPr>
              <a:t>везивање критичног аутопептида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2" name="Picture 2" descr="Fig"/>
          <p:cNvPicPr/>
          <p:nvPr/>
        </p:nvPicPr>
        <p:blipFill>
          <a:blip r:embed="rId1"/>
          <a:srcRect l="0" t="0" r="0" b="5808"/>
          <a:stretch/>
        </p:blipFill>
        <p:spPr>
          <a:xfrm>
            <a:off x="6357960" y="1670040"/>
            <a:ext cx="2535120" cy="49989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Palatino Linotype"/>
              </a:rPr>
              <a:t>Фактори спољашње среди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У малом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броју случајева, дијабетес може бити у вези са специфичним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инфекцијам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а нарочито са оним вирусима (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</a:rPr>
              <a:t>мумпс и коксаки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) за које се зна да показују </a:t>
            </a:r>
            <a:r>
              <a:rPr b="0" lang="en-US" sz="2200" spc="-1" strike="noStrike">
                <a:solidFill>
                  <a:srgbClr val="cc0000"/>
                </a:solidFill>
                <a:latin typeface="Palatino Linotype"/>
              </a:rPr>
              <a:t>тропизам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за панкреас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Међутим, само инфекција која је недвосмислено у вези са </a:t>
            </a: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Diabetes mellitus-ом</a:t>
            </a: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 тип 1 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је </a:t>
            </a:r>
            <a:r>
              <a:rPr b="0" lang="en-US" sz="2200" spc="-1" strike="noStrike">
                <a:solidFill>
                  <a:srgbClr val="cc0000"/>
                </a:solidFill>
                <a:latin typeface="Palatino Linotype"/>
              </a:rPr>
              <a:t>конгенитална рубела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, која је данас веома рет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Поли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Полифа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Умор и слаб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Грчеви у мишић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Поремећаји в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Периферне неуропат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Гастроинтестиналне смет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3284280"/>
            <a:ext cx="53276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Улцерације на стопалима (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Ulcus cruris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микозе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мпликације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кожа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ANd9GcTqIDAKecEdi8ZQaRQYdk-n8aEt4AvLC450mOXFzifRT171Dy456A"/>
          <p:cNvPicPr/>
          <p:nvPr/>
        </p:nvPicPr>
        <p:blipFill>
          <a:blip r:embed="rId1"/>
          <a:stretch/>
        </p:blipFill>
        <p:spPr>
          <a:xfrm>
            <a:off x="5940360" y="184464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diabetes-foot-ulcers-prevention"/>
          <p:cNvPicPr/>
          <p:nvPr/>
        </p:nvPicPr>
        <p:blipFill>
          <a:blip r:embed="rId2"/>
          <a:stretch/>
        </p:blipFill>
        <p:spPr>
          <a:xfrm>
            <a:off x="5940360" y="3789360"/>
            <a:ext cx="2857680" cy="2809800"/>
          </a:xfrm>
          <a:prstGeom prst="rect">
            <a:avLst/>
          </a:prstGeom>
          <a:ln w="0">
            <a:noFill/>
          </a:ln>
        </p:spPr>
      </p:pic>
      <p:sp>
        <p:nvSpPr>
          <p:cNvPr id="161" name="Line 4"/>
          <p:cNvSpPr/>
          <p:nvPr/>
        </p:nvSpPr>
        <p:spPr>
          <a:xfrm flipV="1">
            <a:off x="5076720" y="2997000"/>
            <a:ext cx="719280" cy="6476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5076720" y="3573360"/>
            <a:ext cx="576360" cy="6476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мпликације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кардиоваскуларни систем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фар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Обољења периферних крвних суд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Хипертен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Мождани уд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57240" y="-22320"/>
            <a:ext cx="239076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66" name="Picture 7" descr="19314"/>
          <p:cNvPicPr/>
          <p:nvPr/>
        </p:nvPicPr>
        <p:blipFill>
          <a:blip r:embed="rId1"/>
          <a:stretch/>
        </p:blipFill>
        <p:spPr>
          <a:xfrm>
            <a:off x="4500720" y="364500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57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Дијабетична ретинопат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Глау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Катара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мпликације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очи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57240" y="-223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448080" y="241452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71" name="Picture 11" descr="non-proliferative_diabetic_retinopathy"/>
          <p:cNvPicPr/>
          <p:nvPr/>
        </p:nvPicPr>
        <p:blipFill>
          <a:blip r:embed="rId1"/>
          <a:stretch/>
        </p:blipFill>
        <p:spPr>
          <a:xfrm>
            <a:off x="5940360" y="1557360"/>
            <a:ext cx="2952720" cy="253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phototake_rm_photo_of_diabetic_retinopathy"/>
          <p:cNvPicPr/>
          <p:nvPr/>
        </p:nvPicPr>
        <p:blipFill>
          <a:blip r:embed="rId2"/>
          <a:stretch/>
        </p:blipFill>
        <p:spPr>
          <a:xfrm>
            <a:off x="5867280" y="4149720"/>
            <a:ext cx="3068640" cy="2525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cataract_img"/>
          <p:cNvPicPr/>
          <p:nvPr/>
        </p:nvPicPr>
        <p:blipFill>
          <a:blip r:embed="rId3"/>
          <a:stretch/>
        </p:blipFill>
        <p:spPr>
          <a:xfrm>
            <a:off x="395280" y="4869000"/>
            <a:ext cx="2476440" cy="1695240"/>
          </a:xfrm>
          <a:prstGeom prst="rect">
            <a:avLst/>
          </a:prstGeom>
          <a:ln w="0">
            <a:noFill/>
          </a:ln>
        </p:spPr>
      </p:pic>
      <p:sp>
        <p:nvSpPr>
          <p:cNvPr id="174" name="Line 4"/>
          <p:cNvSpPr/>
          <p:nvPr/>
        </p:nvSpPr>
        <p:spPr>
          <a:xfrm>
            <a:off x="1476360" y="3573360"/>
            <a:ext cx="0" cy="9352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572000" y="2349360"/>
            <a:ext cx="1224000" cy="21592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4572000" y="2349360"/>
            <a:ext cx="1152360" cy="2876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572000" y="2349360"/>
            <a:ext cx="1224000" cy="21592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4572000" y="2349360"/>
            <a:ext cx="1152360" cy="2876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5940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ијабетична полинеуропат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Симетрична полинеуропат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олирадикулопат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Мононеуропат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уропатија аутономних нер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ми оштећења нера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- Микроваскуларна оштећења vasa nervo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- Нагомилавање масти у ћелијама које граде нервни омотач што ремети нормалну активност ових ћел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- Метаболичке поремећаје који ремете доток трансмитера и хранљивих материја у завршним деловима нер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Симптом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арестезије, губитак сензибилитета (чарапе-рукавице), бол, карпал-тунел синдром,успорена дигестија хране, диплопије....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мпликације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нерви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Foot%20Pic%204"/>
          <p:cNvPicPr/>
          <p:nvPr/>
        </p:nvPicPr>
        <p:blipFill>
          <a:blip r:embed="rId1"/>
          <a:stretch/>
        </p:blipFill>
        <p:spPr>
          <a:xfrm>
            <a:off x="6012000" y="2205000"/>
            <a:ext cx="3132000" cy="244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7163640" y="4724280"/>
            <a:ext cx="10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ЕМГ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Ниво глукозе у крви (наташте;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lt;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mol/l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TT (100g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лукозе;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након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3h &lt; 7,8mmol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ликозилирани хемоглобин -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bA1c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lt;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5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Електролити у серу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лукоза, кетонска тела и протеини у ури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Функционални поремећаји ендокриних жлезда настају услед њихове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повећане активности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што за последицу има прекомерну продукцију хормона, или услед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атрофије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ендокриних жлезда због чега изостаје продукција релевантних хормо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Аутоимунске реакције могу бити усмерене против ендокриних ћелија, њихових рецептора, хормона или рецептора на циљаним ћелија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Аутоанти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alatino Linotype"/>
              </a:rPr>
              <a:t>IAA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alatino Linotype"/>
              </a:rPr>
              <a:t>GADA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alatino Linotype"/>
              </a:rPr>
              <a:t>IA-2А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alatino Linotype"/>
              </a:rPr>
              <a:t>ICA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IF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3924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Уколико је нађено једно антитело које је повезано са дијабетесом ризик за појаву обољења је до 2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Ако је нађена комбинација антите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ICA + 2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антитела ил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(GADA, IA-2A, IA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ризик за појав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расте на 9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3780000" y="1484280"/>
          <a:ext cx="518472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484280"/>
                    <a:ext cx="518472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Лечење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а тип 1 се заснива на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супституционој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терапији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инсули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нтензивн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имуносупресивн</a:t>
            </a:r>
            <a:r>
              <a:rPr b="0" lang="sr-CS" sz="2400" spc="-1" strike="noStrike">
                <a:solidFill>
                  <a:srgbClr val="cc0000"/>
                </a:solidFill>
                <a:latin typeface="Palatino Linotype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терапиј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а одмах по постављању дијагно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клоспорин и моноклонска антит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У моменту постављања дијагнозе очувано је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мање од 10% β-ћел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У овим случајевима индуковање ремисије дијабетеса је ограниче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Palatino Linotype"/>
              </a:rPr>
              <a:t>Инсу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убкутана админист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Модификације инсул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брзо-делујући инсулин је модификован тако да ремети природну способност инсулина да формира хексамер, због чега се брзо абсорбује након субкутане администр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нису повезане са повећаним стварањем анти-инсулинских антитела. Резистенција на апликовани инсулин је ретко присутна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овремено се јављају реакције преосетљивости на месту апликације инсул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промена форм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додавање малих количина кортикистеро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Palatino Linotype"/>
              </a:rPr>
              <a:t>Имунска супресија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Cyclosporine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 А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инхибира синтезу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L-2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онтинуираносе ординира најмање 6-12 месеци. Најбољи резултати се постижу ако се са апликацијом почне у првих 6 недеља након дијагнозе болести. Лек је нефротоксич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Аzatiopirine</a:t>
            </a:r>
            <a:r>
              <a:rPr b="0" lang="sr-CS" sz="2800" spc="-1" strike="noStrike">
                <a:solidFill>
                  <a:srgbClr val="ffc00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хибира пролиферацију Т и В лимфоцита и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K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ћелиј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356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ортикостерои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ronison</a:t>
            </a:r>
            <a:r>
              <a:rPr b="0" lang="sr-CS" sz="2800" spc="-1" strike="noStrike">
                <a:solidFill>
                  <a:srgbClr val="0000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Object 7"/>
          <p:cNvGraphicFramePr/>
          <p:nvPr/>
        </p:nvGraphicFramePr>
        <p:xfrm>
          <a:off x="3527280" y="1341360"/>
          <a:ext cx="561672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7280" y="1341360"/>
                    <a:ext cx="56167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8"/>
          <p:cNvSpPr/>
          <p:nvPr/>
        </p:nvSpPr>
        <p:spPr>
          <a:xfrm>
            <a:off x="3637080" y="638172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Buttgereit, </a:t>
            </a:r>
            <a:r>
              <a:rPr b="0" i="1" lang="sr-Latn-CS" sz="1800" spc="-1" strike="noStrike">
                <a:solidFill>
                  <a:srgbClr val="000000"/>
                </a:solidFill>
                <a:latin typeface="Palatino Linotype"/>
              </a:rPr>
              <a:t>et al.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 Scand. J. Rheum. 2005;34:14 -2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7640" y="1499760"/>
            <a:ext cx="878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модификована анти-CD3 антител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TRX4, otelixizumab, teplizumab) блокира пролиферацију и диференцијацију Т лимфоцита и стимулише настанак Tregs.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Два дозна циклуса (8-12) на 6-12 месец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анти-CD20 антител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rituximab)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. Инхибира презентацију аутоантигена Т лимфоцитима. Терапија траје 4 неде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а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нти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TLA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4 антитела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batacept).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Месечна инфузија у периоду од 2 г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анти-тимоцитна антитела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Thymoglobulin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tgam)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. Смањује број Т лимфоцит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NF-R IgG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 фузиони протеин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el-GR" sz="2400" spc="-1" strike="noStrike">
                <a:solidFill>
                  <a:srgbClr val="000000"/>
                </a:solidFill>
                <a:latin typeface="Palatino Linotype"/>
              </a:rPr>
              <a:t>tanercept)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l-GR" sz="2400" spc="-1" strike="noStrike">
                <a:solidFill>
                  <a:srgbClr val="0000ff"/>
                </a:solidFill>
                <a:latin typeface="Palatino Linotype"/>
              </a:rPr>
              <a:t>IL-1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 рецептор антагонист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Palatino Linotype"/>
              </a:rPr>
              <a:t>(IL-1ra) 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el-GR" sz="2400" spc="-1" strike="noStrike">
                <a:solidFill>
                  <a:srgbClr val="000000"/>
                </a:solidFill>
                <a:latin typeface="Palatino Linotype"/>
              </a:rPr>
              <a:t>nakin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Генетска ос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947520"/>
            <a:ext cx="91440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MHC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Palatino Linotype"/>
              </a:rPr>
              <a:t>DR3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Latn-CS" sz="2000" spc="-1" strike="noStrike">
                <a:solidFill>
                  <a:srgbClr val="cc0000"/>
                </a:solidFill>
                <a:latin typeface="Palatino Linotype"/>
              </a:rPr>
              <a:t>DR4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су удружени са чешћом појавом </a:t>
            </a:r>
            <a:r>
              <a:rPr b="1" lang="en-US" sz="2000" spc="-1" strike="noStrike">
                <a:solidFill>
                  <a:srgbClr val="ff9900"/>
                </a:solidFill>
                <a:latin typeface="Palatino Linotype"/>
              </a:rPr>
              <a:t>diabetes mellitus-а</a:t>
            </a:r>
            <a:r>
              <a:rPr b="1" lang="sr-CS" sz="2000" spc="-1" strike="noStrike">
                <a:solidFill>
                  <a:srgbClr val="ff9900"/>
                </a:solidFill>
                <a:latin typeface="Palatino Linotype"/>
              </a:rPr>
              <a:t> тип</a:t>
            </a:r>
            <a:r>
              <a:rPr b="1" lang="en-US" sz="2000" spc="-1" strike="noStrike">
                <a:solidFill>
                  <a:srgbClr val="ff9900"/>
                </a:solidFill>
                <a:latin typeface="Palatino Linotype"/>
              </a:rPr>
              <a:t> </a:t>
            </a:r>
            <a:r>
              <a:rPr b="1" lang="sr-CS" sz="2000" spc="-1" strike="noStrike">
                <a:solidFill>
                  <a:srgbClr val="ff9900"/>
                </a:solidFill>
                <a:latin typeface="Palatino Linotype"/>
              </a:rPr>
              <a:t>1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а уочена је протективна улога </a:t>
            </a:r>
            <a:r>
              <a:rPr b="1" lang="sr-Latn-CS" sz="2000" spc="-1" strike="noStrike">
                <a:solidFill>
                  <a:srgbClr val="00cc00"/>
                </a:solidFill>
                <a:latin typeface="Palatino Linotype"/>
              </a:rPr>
              <a:t>DR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Palatino Linotype"/>
              </a:rPr>
              <a:t>DR3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је предиспонирајући хаплотип за </a:t>
            </a:r>
            <a:r>
              <a:rPr b="1" i="1" lang="en-US" sz="2000" spc="-1" strike="noStrike">
                <a:solidFill>
                  <a:srgbClr val="ff9900"/>
                </a:solidFill>
                <a:latin typeface="Palatino Linotype"/>
              </a:rPr>
              <a:t>Graves</a:t>
            </a:r>
            <a:r>
              <a:rPr b="1" lang="en-US" sz="2000" spc="-1" strike="noStrike">
                <a:solidFill>
                  <a:srgbClr val="ff9900"/>
                </a:solidFill>
                <a:latin typeface="Palatino Linotype"/>
              </a:rPr>
              <a:t>-</a:t>
            </a:r>
            <a:r>
              <a:rPr b="1" lang="sr-CS" sz="2000" spc="-1" strike="noStrike">
                <a:solidFill>
                  <a:srgbClr val="ff9900"/>
                </a:solidFill>
                <a:latin typeface="Palatino Linotype"/>
              </a:rPr>
              <a:t>ову болест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а протективну улогу има </a:t>
            </a:r>
            <a:r>
              <a:rPr b="1" lang="sr-Latn-CS" sz="2000" spc="-1" strike="noStrike">
                <a:solidFill>
                  <a:srgbClr val="00cc00"/>
                </a:solidFill>
                <a:latin typeface="Palatino Linotype"/>
              </a:rPr>
              <a:t>DR</a:t>
            </a:r>
            <a:r>
              <a:rPr b="1" lang="sr-CS" sz="2000" spc="-1" strike="noStrike">
                <a:solidFill>
                  <a:srgbClr val="00cc00"/>
                </a:solidFill>
                <a:latin typeface="Palatino Linotyp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Palatino Linotype"/>
              </a:rPr>
              <a:t>DR3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је </a:t>
            </a: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удружен са чешћом појавом </a:t>
            </a:r>
            <a:r>
              <a:rPr b="1" i="1" lang="en-US" sz="2000" spc="-1" strike="noStrike">
                <a:solidFill>
                  <a:srgbClr val="ff9900"/>
                </a:solidFill>
                <a:latin typeface="Palatino Linotype"/>
              </a:rPr>
              <a:t>Hashimoto</a:t>
            </a:r>
            <a:r>
              <a:rPr b="1" lang="en-US" sz="2000" spc="-1" strike="noStrike">
                <a:solidFill>
                  <a:srgbClr val="0000ff"/>
                </a:solidFill>
                <a:latin typeface="Palatino Linotype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ог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иреоидит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Palatino Linotype"/>
              </a:rPr>
              <a:t>DR</a:t>
            </a:r>
            <a:r>
              <a:rPr b="0" lang="sr-CS" sz="2000" spc="-1" strike="noStrike">
                <a:solidFill>
                  <a:srgbClr val="cc0000"/>
                </a:solidFill>
                <a:latin typeface="Palatino Linotype"/>
              </a:rPr>
              <a:t>5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је </a:t>
            </a: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удружен са чешћом појавом </a:t>
            </a:r>
            <a:r>
              <a:rPr b="1" lang="sr-CS" sz="2000" spc="-1" strike="noStrike">
                <a:solidFill>
                  <a:srgbClr val="ff9900"/>
                </a:solidFill>
                <a:latin typeface="Palatino Linotype"/>
              </a:rPr>
              <a:t>постпарталног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иреоидитиса, уочена је протективна улога </a:t>
            </a:r>
            <a:r>
              <a:rPr b="1" lang="sr-Latn-CS" sz="2000" spc="-1" strike="noStrike">
                <a:solidFill>
                  <a:srgbClr val="00cc00"/>
                </a:solidFill>
                <a:latin typeface="Palatino Linotype"/>
              </a:rPr>
              <a:t>DR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non-MHC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CTLA-4 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сулин зависни дијабетес, аутоимунске тиреоидне болести)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AIRE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аутоимунска полиендокринопатија-кандидијаза, ектодермална дистрофија,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APECE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FAS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лупус и вероватно аутоимунски тиреоидити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Удруженост аутоимунских ендокринопатија са инфективним агенс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Аутоимунски тиреоидити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показани су виши нивои антитела на бактерије </a:t>
            </a: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Yersinia enterocolitica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Helicobacter pylo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вируси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CV,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CMV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EBV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Diabetes melitus-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а тип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Rubella, Mumps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ентеровиру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000000"/>
                </a:solidFill>
                <a:latin typeface="Times New Roman"/>
              </a:rPr>
              <a:t>Graves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ова бол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Честа аутоимунск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7 пута је чешћа код ж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Може да се јави у било ком периоду живота, али најчешће у четвртој деценији (од 35. до 40.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Ет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8108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Генетски фак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Palatino Linotype"/>
              </a:rPr>
              <a:t>MHC 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3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3 +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QB1*0201; DQA1*05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B1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3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 је највероватније модулирајући ген који доприноси ефектима осталих предиспонирајућих гена повезаних са развојем </a:t>
            </a:r>
            <a:r>
              <a:rPr b="1" i="1" lang="en-US" sz="3500" spc="-1" strike="noStrike">
                <a:solidFill>
                  <a:srgbClr val="ff9900"/>
                </a:solidFill>
                <a:latin typeface="Palatino Linotype"/>
              </a:rPr>
              <a:t>Graves</a:t>
            </a:r>
            <a:r>
              <a:rPr b="1" lang="en-US" sz="3500" spc="-1" strike="noStrike">
                <a:solidFill>
                  <a:srgbClr val="ff9900"/>
                </a:solidFill>
                <a:latin typeface="Palatino Linotype"/>
              </a:rPr>
              <a:t>-</a:t>
            </a:r>
            <a:r>
              <a:rPr b="1" lang="sr-CS" sz="3500" spc="-1" strike="noStrike">
                <a:solidFill>
                  <a:srgbClr val="ff9900"/>
                </a:solidFill>
                <a:latin typeface="Palatino Linotype"/>
              </a:rPr>
              <a:t>ове 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0:37:30Z</dcterms:created>
  <dc:creator>User</dc:creator>
  <dc:description/>
  <dc:language>en-US</dc:language>
  <cp:lastModifiedBy>Sladja</cp:lastModifiedBy>
  <dcterms:modified xsi:type="dcterms:W3CDTF">2020-10-01T17:05:47Z</dcterms:modified>
  <cp:revision>151</cp:revision>
  <dc:subject/>
  <dc:title>Ендокрине болести механизми аутоимуности код ендокриних обољења </dc:title>
</cp:coreProperties>
</file>